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6500-E0E1-45B5-B8BB-3358BA51E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C914-D3C3-4C22-9E41-922BE92D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28D-75E5-4DEA-B40A-84E6EDBB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F88-B866-442D-8824-828F6704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52E-3DF7-4D8A-B562-9755C5FB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C2F-A892-41AA-BC37-D84EA86C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F80-4F96-4B6E-B4DB-8C643BBC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76A-EDBE-4E57-BEE3-788F938A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771-8234-455E-81BC-AD66AD45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182-7513-4832-A98A-99F88D12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93F-82E6-4576-938E-C2AFB46A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D38-F0BA-4750-9411-9CDCFD6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08C-4DDD-4A32-8984-8C974BB8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D4B-30D0-47B8-8269-9980D1E6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32FD-06B3-4E84-9AEC-7552DC6D1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5/57/India-locator-map-blank.sv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lackadder ITC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990720" y="15238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Harlow Solid Italic"/>
              </a:rPr>
              <a:t>Name: Sara Houthoof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63360" y="-1008000"/>
            <a:ext cx="2219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File:India-locator-map-blank.svg">
            <a:hlinkClick r:id="rId2"/>
          </p:cNvPr>
          <p:cNvPicPr/>
          <p:nvPr/>
        </p:nvPicPr>
        <p:blipFill>
          <a:blip r:embed="rId3"/>
          <a:srcRect l="0" t="12000" r="0" b="2665"/>
          <a:stretch/>
        </p:blipFill>
        <p:spPr>
          <a:xfrm>
            <a:off x="2666880" y="2590920"/>
            <a:ext cx="3902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z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uddhists center of prayer and 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http://m.travelpn.com/images/gangtok/hotel/1/125119/Exterior_E_1.jpg"/>
          <p:cNvPicPr/>
          <p:nvPr/>
        </p:nvPicPr>
        <p:blipFill>
          <a:blip r:embed="rId2"/>
          <a:stretch/>
        </p:blipFill>
        <p:spPr>
          <a:xfrm>
            <a:off x="2438280" y="13716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large landmass that is part of a continent but distinct from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easonal wind that blows for months at a time, affecting the cl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63360" y="-825480"/>
            <a:ext cx="27054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63360" y="-825480"/>
            <a:ext cx="27054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http://www.indiamike.com/india/attachments/1226d1089869973-kolkata-and-varanasi-during-monsoon-flood1.jpg"/>
          <p:cNvPicPr/>
          <p:nvPr/>
        </p:nvPicPr>
        <p:blipFill>
          <a:blip r:embed="rId2"/>
          <a:stretch/>
        </p:blipFill>
        <p:spPr>
          <a:xfrm>
            <a:off x="1600200" y="1905120"/>
            <a:ext cx="57499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lant fiber used for making rope, burlap bags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3360" y="-839880"/>
            <a:ext cx="2657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ute-industry.com/gifs/jute-india.jpg"/>
          <p:cNvPicPr/>
          <p:nvPr/>
        </p:nvPicPr>
        <p:blipFill>
          <a:blip r:embed="rId2"/>
          <a:stretch/>
        </p:blipFill>
        <p:spPr>
          <a:xfrm>
            <a:off x="1295280" y="1371600"/>
            <a:ext cx="64771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Cottag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A home or village based industry where family members make their own go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www.youthkiawaaz.com/wp-content/uploads/2011/02/cottage-industry-india.jpg"/>
          <p:cNvPicPr/>
          <p:nvPr/>
        </p:nvPicPr>
        <p:blipFill>
          <a:blip r:embed="rId2"/>
          <a:stretch/>
        </p:blipFill>
        <p:spPr>
          <a:xfrm>
            <a:off x="1523880" y="1752480"/>
            <a:ext cx="53341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nataliepeart.files.wordpress.com/2011/10/caste_system-oo4t9n.jpg"/>
          <p:cNvPicPr/>
          <p:nvPr/>
        </p:nvPicPr>
        <p:blipFill>
          <a:blip r:embed="rId2"/>
          <a:stretch/>
        </p:blipFill>
        <p:spPr>
          <a:xfrm>
            <a:off x="2057400" y="1295280"/>
            <a:ext cx="4421160" cy="467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incar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elief in the rebirth of a person’s soul in a new body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http://westerlund10.wikis.birmingham.k12.mi.us/file/view/reincarnation1.jpg/194017118/reincarnation1.jpg"/>
          <p:cNvPicPr/>
          <p:nvPr/>
        </p:nvPicPr>
        <p:blipFill>
          <a:blip r:embed="rId2"/>
          <a:stretch/>
        </p:blipFill>
        <p:spPr>
          <a:xfrm>
            <a:off x="2895480" y="1447920"/>
            <a:ext cx="29718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3360" y="-90180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://www.indianweekender.co.nz/Uploads/Articles/1685.jpg"/>
          <p:cNvPicPr/>
          <p:nvPr/>
        </p:nvPicPr>
        <p:blipFill>
          <a:blip r:embed="rId2"/>
          <a:stretch/>
        </p:blipFill>
        <p:spPr>
          <a:xfrm>
            <a:off x="1523880" y="1752480"/>
            <a:ext cx="56390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kill crop-destroying ins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http://cdn.wn.com/pd/90/08/eb8d91d6ed00f79c167483107e32_grande.jpg"/>
          <p:cNvPicPr/>
          <p:nvPr/>
        </p:nvPicPr>
        <p:blipFill>
          <a:blip r:embed="rId2"/>
          <a:stretch/>
        </p:blipFill>
        <p:spPr>
          <a:xfrm>
            <a:off x="1600200" y="137160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7T00:03:57Z</dcterms:modified>
  <cp:revision>7</cp:revision>
  <dc:subject/>
  <dc:title>Chapter 5 – India Vocabulary</dc:title>
</cp:coreProperties>
</file>